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BE1-B957-4801-904B-14F15191BC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ABFB-1311-4F02-A611-CE0CEBC23403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EAF-EDCC-4917-AAFB-56DF16BFADD9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CBD-9CEB-4F7E-AD11-578820038D53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649-3550-4F20-BC7D-2CE6A7E2ADF2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389-2CC9-4B0C-BFD5-9E57D9C9F37F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2E17-B3FC-47E4-8411-D732C2BE7D85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E607-C25E-483C-BE72-317914302744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47B-1070-44DD-B5C4-D23D76CFEC7E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54C-9E16-412B-A64E-2376B6B479CA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8689-FC7B-4A42-875D-F5FA7FDE3634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23CE-BB6A-4FEE-875D-C0B36B20E27C}" type="slidenum">
              <a:rPr b="0" lang="en-US" sz="1200" spc="-1" strike="noStrike">
                <a:solidFill>
                  <a:srgbClr val="2c110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CEA-E954-4057-8A9B-A7D2E1A9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F01-1337-4910-84F0-5846A0EA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AEC-0BFA-4919-A6C0-D542F748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2C7-0206-4306-AF88-4EF2ED56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9724-AC01-453E-953D-48DA46DF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46BE-15C4-4ED7-8333-32E93CBB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0AED-1597-46E3-B71E-E9E633AA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1C94-FA86-4AA1-A812-CB0FBE34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2261-982B-45AD-8009-FFB8FE3B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1C13-E46A-4598-A10F-47DC7E8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196B-07B0-417E-A227-3B06B29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C22-BB7F-4310-9367-C2D733A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4759-DC63-4AB7-A18B-47542EC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CB39-8C65-45D4-AA17-BEA22EB6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8F2D-D32A-4654-A714-26D4158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E6FA-DAE6-414F-A8FF-43A706E5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F929-03C2-41CC-B484-0D548DA6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4B8-6CC2-4208-B8F0-BAF49C80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307-9E35-4390-B096-AA7354B5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F05-C292-40A6-9E22-793D63D4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0E1-4730-4211-ADBD-C86EDCA7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A84-5A97-4A9B-B1F4-519B8A1C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6CC-3103-4FDD-938F-CCE279E1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6FE-A317-4912-A88A-1EF4FE84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566F-5F7A-477D-B2D1-4A8518EE70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2c110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c11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c11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c11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11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34C6-8571-41DF-9800-779777D79E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380880" y="17524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ational Expression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676520" y="3352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ultiplying and Dividing</a:t>
            </a:r>
            <a:endParaRPr b="0" lang="en-US" sz="36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3048120" y="2438280"/>
                <a:ext cx="319716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+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Box 5"/>
          <p:cNvSpPr/>
          <p:nvPr/>
        </p:nvSpPr>
        <p:spPr>
          <a:xfrm>
            <a:off x="1447920" y="7621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ahoma"/>
              </a:rPr>
              <a:t>Example 1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600200" y="6858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ahoma"/>
              </a:rPr>
              <a:t>Example 2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819520" y="2743200"/>
                <a:ext cx="3465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-5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n+9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914400" y="3808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9"/>
              <p:cNvSpPr txBox="1"/>
              <p:nvPr/>
            </p:nvSpPr>
            <p:spPr>
              <a:xfrm>
                <a:off x="2590920" y="2438280"/>
                <a:ext cx="4302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4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Content Placeholder 5"/>
              <p:cNvSpPr txBox="1"/>
              <p:nvPr/>
            </p:nvSpPr>
            <p:spPr>
              <a:xfrm>
                <a:off x="3048120" y="2743200"/>
                <a:ext cx="32004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d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5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Content Placeholder 5"/>
              <p:cNvSpPr txBox="1"/>
              <p:nvPr/>
            </p:nvSpPr>
            <p:spPr>
              <a:xfrm>
                <a:off x="990720" y="2438280"/>
                <a:ext cx="537048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+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-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6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Content Placeholder 5"/>
              <p:cNvSpPr txBox="1"/>
              <p:nvPr/>
            </p:nvSpPr>
            <p:spPr>
              <a:xfrm>
                <a:off x="2133720" y="2743200"/>
                <a:ext cx="517680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x+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x-1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x-3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7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Content Placeholder 5"/>
              <p:cNvSpPr txBox="1"/>
              <p:nvPr/>
            </p:nvSpPr>
            <p:spPr>
              <a:xfrm>
                <a:off x="1676520" y="2743200"/>
                <a:ext cx="6081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8x+12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x+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c1102"/>
                </a:solidFill>
                <a:latin typeface="Arial"/>
              </a:rPr>
              <a:t>Example 8</a:t>
            </a:r>
            <a:endParaRPr b="1" lang="en-US" sz="4400" spc="-1" strike="noStrike">
              <a:solidFill>
                <a:srgbClr val="2c1102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Content Placeholder 5"/>
              <p:cNvSpPr txBox="1"/>
              <p:nvPr/>
            </p:nvSpPr>
            <p:spPr>
              <a:xfrm>
                <a:off x="1676520" y="2895480"/>
                <a:ext cx="57481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2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-8x+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x-2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838080" y="2378160"/>
            <a:ext cx="769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Multiply by the reciprocal of the divisor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990720" y="4309920"/>
          <a:ext cx="365760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309920"/>
                    <a:ext cx="365760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14"/>
          <p:cNvGrpSpPr/>
          <p:nvPr/>
        </p:nvGrpSpPr>
        <p:grpSpPr>
          <a:xfrm>
            <a:off x="4724280" y="3840120"/>
            <a:ext cx="1828800" cy="2410200"/>
            <a:chOff x="4724280" y="3840120"/>
            <a:chExt cx="1828800" cy="2410200"/>
          </a:xfrm>
        </p:grpSpPr>
        <p:graphicFrame>
          <p:nvGraphicFramePr>
            <p:cNvPr id="156" name="Object 4"/>
            <p:cNvGraphicFramePr/>
            <p:nvPr/>
          </p:nvGraphicFramePr>
          <p:xfrm>
            <a:off x="4724280" y="4297320"/>
            <a:ext cx="1828800" cy="131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4297320"/>
                      <a:ext cx="1828800" cy="131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5"/>
            <p:cNvSpPr/>
            <p:nvPr/>
          </p:nvSpPr>
          <p:spPr>
            <a:xfrm flipH="1">
              <a:off x="5257080" y="4373280"/>
              <a:ext cx="381240" cy="45720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59" name="Line 6"/>
            <p:cNvSpPr/>
            <p:nvPr/>
          </p:nvSpPr>
          <p:spPr>
            <a:xfrm flipH="1">
              <a:off x="5866920" y="5135400"/>
              <a:ext cx="609480" cy="45720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5943240" y="4373280"/>
              <a:ext cx="457200" cy="30492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 flipH="1">
              <a:off x="5333400" y="5135400"/>
              <a:ext cx="304920" cy="380880"/>
            </a:xfrm>
            <a:prstGeom prst="line">
              <a:avLst/>
            </a:prstGeom>
            <a:ln w="28440">
              <a:solidFill>
                <a:srgbClr val="2c11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5181480" y="3840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5257440" y="56689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4" name="Text Box 12"/>
            <p:cNvSpPr/>
            <p:nvPr/>
          </p:nvSpPr>
          <p:spPr>
            <a:xfrm>
              <a:off x="601956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5943240" y="566892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c1102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2c1102"/>
                </a:solidFill>
                <a:latin typeface="Tahoma"/>
              </a:endParaRPr>
            </a:p>
          </p:txBody>
        </p:sp>
      </p:grpSp>
      <p:graphicFrame>
        <p:nvGraphicFramePr>
          <p:cNvPr id="166" name="Object 15"/>
          <p:cNvGraphicFramePr/>
          <p:nvPr/>
        </p:nvGraphicFramePr>
        <p:xfrm>
          <a:off x="6705720" y="4267080"/>
          <a:ext cx="10285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4267080"/>
                    <a:ext cx="10285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6"/>
          <p:cNvSpPr/>
          <p:nvPr/>
        </p:nvSpPr>
        <p:spPr>
          <a:xfrm>
            <a:off x="457200" y="1295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Remember how to divide fractions?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0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736560" y="137160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Dividing rational expressions uses the same procedure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19320" y="307332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Ex: Divide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447920" y="3962520"/>
          <a:ext cx="63244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63244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676520" y="62244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Multiplying and Dividing Rational Expressions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73200" y="2362320"/>
            <a:ext cx="83055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Remember that a rational number can be expressed as a quotient of two integers. A rational expression can be expressed as a quotient of two polynomials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95280" y="1066680"/>
          <a:ext cx="51087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5108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1219320" y="2859120"/>
          <a:ext cx="5190840" cy="117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59120"/>
                    <a:ext cx="51908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"/>
          <p:cNvGraphicFramePr/>
          <p:nvPr/>
        </p:nvGraphicFramePr>
        <p:xfrm>
          <a:off x="1371600" y="4724280"/>
          <a:ext cx="541008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724280"/>
                    <a:ext cx="54100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Line 6"/>
          <p:cNvSpPr/>
          <p:nvPr/>
        </p:nvSpPr>
        <p:spPr>
          <a:xfrm flipH="1">
            <a:off x="2209320" y="4778280"/>
            <a:ext cx="946440" cy="325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4" name="Line 7"/>
          <p:cNvSpPr/>
          <p:nvPr/>
        </p:nvSpPr>
        <p:spPr>
          <a:xfrm flipH="1">
            <a:off x="5344920" y="4778280"/>
            <a:ext cx="1006200" cy="379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4871520" y="5321160"/>
            <a:ext cx="1124280" cy="325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2860200" y="5321160"/>
            <a:ext cx="946440" cy="271440"/>
          </a:xfrm>
          <a:prstGeom prst="line">
            <a:avLst/>
          </a:prstGeom>
          <a:ln w="28440">
            <a:solidFill>
              <a:srgbClr val="2c11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563920" y="4397400"/>
            <a:ext cx="4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700600" y="4343400"/>
            <a:ext cx="4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3098880" y="5702400"/>
            <a:ext cx="4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5227560" y="5754600"/>
            <a:ext cx="4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1102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91" name="Object 16"/>
          <p:cNvGraphicFramePr/>
          <p:nvPr/>
        </p:nvGraphicFramePr>
        <p:xfrm>
          <a:off x="6770520" y="4540320"/>
          <a:ext cx="1895760" cy="127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0520" y="4540320"/>
                    <a:ext cx="189576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219320" y="144792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Now you try to divide the expression: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066680" y="3276720"/>
          <a:ext cx="662940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66294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99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1676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c1102"/>
                </a:solidFill>
                <a:latin typeface="Tahoma"/>
              </a:rPr>
              <a:t>Try These!</a:t>
            </a:r>
            <a:endParaRPr b="0" lang="en-US" sz="4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3200400" y="2438280"/>
                <a:ext cx="2476440" cy="315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÷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3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066680" y="1143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523880" y="2438280"/>
          <a:ext cx="586764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58676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208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447920" y="1219320"/>
                <a:ext cx="5943600" cy="42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17520" y="1371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Remember how to multiply fractions: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685800" y="26827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First you multiply the numerators then multiply the denominators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836640" y="4176720"/>
                <a:ext cx="715500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895480" y="7621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1102"/>
                </a:solidFill>
                <a:latin typeface="Tahoma"/>
              </a:rPr>
              <a:t>Let’s Try One!</a:t>
            </a:r>
            <a:endParaRPr b="0" lang="en-US" sz="4000" spc="-1" strike="noStrike">
              <a:solidFill>
                <a:srgbClr val="2c1102"/>
              </a:solidFill>
              <a:latin typeface="Tahoma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533520" y="2438280"/>
          <a:ext cx="72961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72961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838080" y="213372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Step #1: Factor the numerator and the denominator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1371600" y="2819520"/>
          <a:ext cx="632448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19520"/>
                    <a:ext cx="632448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28600" y="23623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Step #2: Divide the numerator and denominator by the common factors. 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1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c1102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62120" y="21337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1102"/>
                </a:solidFill>
                <a:latin typeface="Times New Roman"/>
              </a:rPr>
              <a:t>Step #3: Multiply the numerator and the denominator.</a:t>
            </a:r>
            <a:endParaRPr b="0" lang="en-US" sz="4400" spc="-1" strike="noStrike">
              <a:solidFill>
                <a:srgbClr val="2c11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3"/>
          <p:cNvGraphicFramePr/>
          <p:nvPr/>
        </p:nvGraphicFramePr>
        <p:xfrm>
          <a:off x="3886200" y="2666880"/>
          <a:ext cx="1473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666880"/>
                    <a:ext cx="1473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18:30:45Z</dcterms:created>
  <dc:creator>HCPS</dc:creator>
  <dc:description/>
  <dc:language>en-US</dc:language>
  <cp:lastModifiedBy>test</cp:lastModifiedBy>
  <dcterms:modified xsi:type="dcterms:W3CDTF">2015-05-08T12:00:40Z</dcterms:modified>
  <cp:revision>81</cp:revision>
  <dc:subject/>
  <dc:title>No Slide Title</dc:title>
</cp:coreProperties>
</file>